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4.jpeg" ContentType="image/jpeg"/>
  <Override PartName="/ppt/media/image24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C745-90BD-4C89-9076-F29794AA9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E949-A409-45FB-B838-CF5215C6854D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954-839C-49DE-9190-34941FA8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54A-4655-4947-9973-C1474112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46C-438E-45DD-B398-9077B7EE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491-7855-4CC3-851B-DF6EEE89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3934-1EFE-4513-A11E-4EBAB0D8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1E69-433B-46A1-9BC0-E011D1B9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514C-00E3-48FA-9259-211D9957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164F-435B-4EAC-843D-217425EE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8B16-99FC-4EA7-A12E-477E9C55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CC09-9186-4940-B425-BF4862C8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0023-0032-4232-852D-54DC6ECC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DA7-F028-42D5-87C7-67B6DE0A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74BF-51AC-47FF-83AE-FCDAC6EE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E30B-520C-4A4A-9F75-D65F4D90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3A37-72D3-4716-B648-2DF2776D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243E-7EF2-4F49-A8D2-0B0F969D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B79D-D212-4468-B78E-4DAE2CCF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67E-39BE-4DF6-943B-E32A84E9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232-2FE8-4CBA-9CF8-FDF885E8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F12-A1EB-4DBE-A6A9-4CD1966B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37D-54A7-491D-B278-55385EB3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5800-4359-4BC7-8345-D1EE0830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082-E64B-4EA3-BD76-45254AA6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6A5C-8900-4E94-A15D-DD31C259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3811-9367-4EDA-A86A-1D1C738DF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4F1B-82A0-4A67-A647-C342D23B655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600" y="395280"/>
            <a:ext cx="8610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mateur Extra Licensing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03800" y="4235040"/>
            <a:ext cx="340344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Presented b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W5YI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Arlington, Texa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1" name="Picture 4" descr="elmer-n-ham"/>
          <p:cNvPicPr/>
          <p:nvPr/>
        </p:nvPicPr>
        <p:blipFill>
          <a:blip r:embed="rId1"/>
          <a:stretch/>
        </p:blipFill>
        <p:spPr>
          <a:xfrm>
            <a:off x="0" y="1623960"/>
            <a:ext cx="2114640" cy="2189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343320" y="2314440"/>
            <a:ext cx="50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515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3" name="Picture 6" descr="1"/>
          <p:cNvPicPr/>
          <p:nvPr/>
        </p:nvPicPr>
        <p:blipFill>
          <a:blip r:embed="rId2"/>
          <a:stretch/>
        </p:blipFill>
        <p:spPr>
          <a:xfrm>
            <a:off x="0" y="3929040"/>
            <a:ext cx="19512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5520" y="162360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1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voltage gain that can be expected from the circuit in Figure E7-4 when R1 is 1800 ohms and RF is 68 kiliohms is 38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1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voltage gain that can be expected from the circuit in Figure E7-4 when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Rockwell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is 3300 ohms and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Rockwell"/>
              </a:rPr>
              <a:t>F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is 47 kiliohms is 14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2" name="Picture 4" descr="206a"/>
          <p:cNvPicPr/>
          <p:nvPr/>
        </p:nvPicPr>
        <p:blipFill>
          <a:blip r:embed="rId1"/>
          <a:stretch/>
        </p:blipFill>
        <p:spPr>
          <a:xfrm>
            <a:off x="5532480" y="2392200"/>
            <a:ext cx="3301920" cy="2025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4111560" y="41194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Figure E7-4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923760" y="5580000"/>
            <a:ext cx="2421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Gain = R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F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 / R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846000" y="2506680"/>
            <a:ext cx="2421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Gain = R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F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 / R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846000" y="304488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68,000/1800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419640" y="558000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47,000/3300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885960" y="3621240"/>
            <a:ext cx="11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81aea"/>
                </a:solidFill>
                <a:latin typeface="Rockwell"/>
              </a:rPr>
              <a:t>37.77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5838840" y="5502240"/>
            <a:ext cx="103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81aea"/>
                </a:solidFill>
                <a:latin typeface="Rockwell"/>
              </a:rPr>
              <a:t>14.24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8544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15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term "op-amp input-offset voltage" refers to the potential between the amplifier input terminals of the op-amp in a closed-loop conditio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1ae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Verdana"/>
              </a:rPr>
              <a:t>Closed loop condition means a feedback loop is present around </a:t>
            </a:r>
            <a:r>
              <a:rPr b="0" i="1" lang="en-US" sz="1800" spc="-1" strike="noStrike">
                <a:solidFill>
                  <a:srgbClr val="381ae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Verdana"/>
              </a:rPr>
              <a:t>the amplifier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16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typical input impedance of an integrated circuit op-amp is Very high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17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typical output impedance of an integrated circuit op-amp is Very low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Photoconductivity is the increased conductivity of an illuminated semiconductor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2…</a:t>
            </a:r>
            <a:r>
              <a:rPr b="1" lang="en-US" sz="10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conductivity of a photoconductive material increases when light shines on i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In other words the resistance decreases</a:t>
            </a:r>
            <a:r>
              <a:rPr b="0" lang="en-US" sz="1600" spc="-1" strike="noStrike">
                <a:solidFill>
                  <a:srgbClr val="381aea"/>
                </a:solidFill>
                <a:latin typeface="Rockwel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4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n LED and a phototransistor in the same package is an optoisolator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2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2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200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most common configuration for an optocoupler is an LED and a phototransistor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265560" y="4811760"/>
            <a:ext cx="3417840" cy="1762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2498760" y="3505320"/>
            <a:ext cx="411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aea"/>
                </a:solidFill>
                <a:latin typeface="Rockwell"/>
              </a:rPr>
              <a:t>Optocoupler and Optoisolator are terms that are used interchangeably for the same device.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n optical shaft encoder is an array of optocouplers whose light transmission path is controlled 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(interrupted)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by a rotating wheel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8" name="Picture 4" descr="208"/>
          <p:cNvPicPr/>
          <p:nvPr/>
        </p:nvPicPr>
        <p:blipFill>
          <a:blip r:embed="rId1"/>
          <a:stretch/>
        </p:blipFill>
        <p:spPr>
          <a:xfrm>
            <a:off x="461880" y="2314440"/>
            <a:ext cx="5376960" cy="2516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OpticalShaftEncoder"/>
          <p:cNvPicPr/>
          <p:nvPr/>
        </p:nvPicPr>
        <p:blipFill>
          <a:blip r:embed="rId2"/>
          <a:stretch/>
        </p:blipFill>
        <p:spPr>
          <a:xfrm>
            <a:off x="501480" y="4964040"/>
            <a:ext cx="3380040" cy="1714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5878440" y="415908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Optocoupler Used for Shaft Encode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919680" y="5464080"/>
            <a:ext cx="391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This drawing illustrates the operation of an optical shaft encoder, often used as a tuning mechanism on modern tranceivers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91440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6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resistance of the crystalline solid varies when light shines on it because of the photoconductive effec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7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Cadmium sulfide will exhibit the greatest photoconductive effect when illuminated by visible ligh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4" name="Picture 6" descr="209a"/>
          <p:cNvPicPr/>
          <p:nvPr/>
        </p:nvPicPr>
        <p:blipFill>
          <a:blip r:embed="rId1"/>
          <a:stretch/>
        </p:blipFill>
        <p:spPr>
          <a:xfrm>
            <a:off x="193680" y="3813120"/>
            <a:ext cx="4149720" cy="2158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209b"/>
          <p:cNvPicPr/>
          <p:nvPr/>
        </p:nvPicPr>
        <p:blipFill>
          <a:blip r:embed="rId2"/>
          <a:stretch/>
        </p:blipFill>
        <p:spPr>
          <a:xfrm>
            <a:off x="4764240" y="3813120"/>
            <a:ext cx="4109760" cy="2124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1538280" y="600228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Physical circui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646600" y="596412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Schematic Diagram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305160" y="3083040"/>
            <a:ext cx="31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Basics for a Photodiode……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91440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1" name="Picture 5" descr="209c"/>
          <p:cNvPicPr/>
          <p:nvPr/>
        </p:nvPicPr>
        <p:blipFill>
          <a:blip r:embed="rId1"/>
          <a:stretch/>
        </p:blipFill>
        <p:spPr>
          <a:xfrm>
            <a:off x="1652760" y="1969920"/>
            <a:ext cx="5914800" cy="35258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2805120" y="1547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1aea"/>
                </a:solidFill>
                <a:latin typeface="Rockwell"/>
              </a:rPr>
              <a:t>……</a:t>
            </a:r>
            <a:r>
              <a:rPr b="0" lang="en-US" sz="2000" spc="-1" strike="noStrike">
                <a:solidFill>
                  <a:srgbClr val="381aea"/>
                </a:solidFill>
                <a:latin typeface="Rockwell"/>
              </a:rPr>
              <a:t>Basics for a Photodiod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885960" y="5734080"/>
            <a:ext cx="74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A Photodiode is like an ordinary p-n junction diode with a window to admit light. The light greatly increases reverse leakage current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5560" y="1469520"/>
            <a:ext cx="84898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94840" indent="-294840">
              <a:lnSpc>
                <a:spcPts val="23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8…</a:t>
            </a:r>
            <a:r>
              <a:rPr b="1" lang="en-US" sz="7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1" lang="en-US" sz="5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Lead sulfide will exhibit the greatest photoconductive effect when illuminated by infrared ligh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94840" indent="-294840">
              <a:lnSpc>
                <a:spcPts val="2398"/>
              </a:lnSpc>
              <a:spcBef>
                <a:spcPts val="45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9…</a:t>
            </a:r>
            <a:r>
              <a:rPr b="1" lang="en-US" sz="500" spc="-1" strike="noStrike">
                <a:solidFill>
                  <a:srgbClr val="000066"/>
                </a:solidFill>
                <a:latin typeface="Rockwel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crystalline semiconductor is affected the most by photo-conductivity when compared to heavy metal, ordinary metal, or a liquid semiconductor</a:t>
            </a:r>
            <a:r>
              <a:rPr b="0" lang="en-US" sz="1800" spc="-1" strike="noStrike">
                <a:solidFill>
                  <a:srgbClr val="000066"/>
                </a:solidFill>
                <a:latin typeface="Rockwel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2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i="1" lang="en-US" sz="8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i="1" lang="en-US" sz="800" spc="-1" strike="noStrike">
                <a:solidFill>
                  <a:srgbClr val="000066"/>
                </a:solidFill>
                <a:latin typeface="Rockwell"/>
              </a:rPr>
              <a:t>	</a:t>
            </a: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2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6" name="Picture 8" descr="209d"/>
          <p:cNvPicPr/>
          <p:nvPr/>
        </p:nvPicPr>
        <p:blipFill>
          <a:blip r:embed="rId1"/>
          <a:stretch/>
        </p:blipFill>
        <p:spPr>
          <a:xfrm>
            <a:off x="1960560" y="1949400"/>
            <a:ext cx="4262400" cy="25002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9"/>
          <p:cNvSpPr/>
          <p:nvPr/>
        </p:nvSpPr>
        <p:spPr>
          <a:xfrm>
            <a:off x="2459160" y="4543560"/>
            <a:ext cx="330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1aea"/>
                </a:solidFill>
                <a:latin typeface="Rockwell"/>
              </a:rPr>
              <a:t>Schematic Symbol of Photodiod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421000" y="15080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1aea"/>
                </a:solidFill>
                <a:latin typeface="Rockwell"/>
              </a:rPr>
              <a:t>……</a:t>
            </a:r>
            <a:r>
              <a:rPr b="0" lang="en-US" sz="2000" spc="-1" strike="noStrike">
                <a:solidFill>
                  <a:srgbClr val="381aea"/>
                </a:solidFill>
                <a:latin typeface="Rockwell"/>
              </a:rPr>
              <a:t>Basics for a Photodiod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469520"/>
            <a:ext cx="507204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10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characteristic of optoisolators that are often used in power supplies is that they have very high impedance between the light source and the phototransistor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11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Because optoisolators provide a very high degree of electrical isolation between a control circuit and a power circuit it makes them suitable for use with a triac to form the solid-state equivalent of a mechanical relay for 120 V AC household circui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5454720" y="3889440"/>
            <a:ext cx="2689200" cy="2347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5340240" y="6194520"/>
            <a:ext cx="29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1aea"/>
                </a:solidFill>
                <a:latin typeface="Rockwell"/>
              </a:rPr>
              <a:t>Optoisolator for 120 Volts AC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3" name="Picture 6" descr="210"/>
          <p:cNvPicPr/>
          <p:nvPr/>
        </p:nvPicPr>
        <p:blipFill>
          <a:blip r:embed="rId2"/>
          <a:stretch/>
        </p:blipFill>
        <p:spPr>
          <a:xfrm>
            <a:off x="5416560" y="1585800"/>
            <a:ext cx="2803680" cy="2129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1768320" y="2968560"/>
            <a:ext cx="36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This makes them an excellent choice for controlling high voltages with a low isolated voltage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8220240" y="3160800"/>
            <a:ext cx="10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aea"/>
                </a:solidFill>
                <a:latin typeface="Rockwell"/>
              </a:rPr>
              <a:t>Optical Coupling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91440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1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Gallium arsenide photovoltaic cell has the highest efficiency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14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approximate open-circuit voltage produced by a fully-illuminated silicon photovoltaic cell 0.5 Volt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1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Electrons absorb the energy from light falling on a photovoltaic cell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539640" y="4465800"/>
            <a:ext cx="2227320" cy="1792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2"/>
          <a:stretch/>
        </p:blipFill>
        <p:spPr>
          <a:xfrm>
            <a:off x="3305160" y="4465800"/>
            <a:ext cx="2265480" cy="1809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3"/>
          <p:cNvSpPr/>
          <p:nvPr/>
        </p:nvSpPr>
        <p:spPr>
          <a:xfrm>
            <a:off x="1844640" y="2852640"/>
            <a:ext cx="52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Twenty seven cells would be required to produce 13.5 volts for charging a 12 volt battery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1" name="Picture 14" descr="WomanSolarPanals"/>
          <p:cNvPicPr/>
          <p:nvPr/>
        </p:nvPicPr>
        <p:blipFill>
          <a:blip r:embed="rId3"/>
          <a:stretch/>
        </p:blipFill>
        <p:spPr>
          <a:xfrm>
            <a:off x="6031080" y="4503600"/>
            <a:ext cx="230328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1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Silicon is the most common type of photovoltaic cell used for electrical power generatio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1"/>
          <a:stretch/>
        </p:blipFill>
        <p:spPr>
          <a:xfrm>
            <a:off x="4687920" y="2776680"/>
            <a:ext cx="4300560" cy="2892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PhotovoltaicCell"/>
          <p:cNvPicPr/>
          <p:nvPr/>
        </p:nvPicPr>
        <p:blipFill>
          <a:blip r:embed="rId2"/>
          <a:stretch/>
        </p:blipFill>
        <p:spPr>
          <a:xfrm>
            <a:off x="231840" y="2814480"/>
            <a:ext cx="4300560" cy="284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ment 4 Course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Rockwell"/>
              </a:rPr>
              <a:t>ELEMENT 4 Groupin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Rules &amp; Reg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Skywaves &amp; Contestin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uter Space Comm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Visuals &amp; Video Mod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Digital Excitement with Computers &amp; Radio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Modulate Your Transmit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Amps &amp; Power Suppli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Receivers with Great Fil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62000" y="1892160"/>
            <a:ext cx="718200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Element 4 Extra Class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Question Pool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4033800" y="4695840"/>
            <a:ext cx="380196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Valid July 1, 2008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Throug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June 30, 2012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8" name="Picture 4" descr="elmer-n-ham"/>
          <p:cNvPicPr/>
          <p:nvPr/>
        </p:nvPicPr>
        <p:blipFill>
          <a:blip r:embed="rId1"/>
          <a:stretch/>
        </p:blipFill>
        <p:spPr>
          <a:xfrm>
            <a:off x="0" y="1508040"/>
            <a:ext cx="2133720" cy="2189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1"/>
          <p:cNvPicPr/>
          <p:nvPr/>
        </p:nvPicPr>
        <p:blipFill>
          <a:blip r:embed="rId2"/>
          <a:stretch/>
        </p:blipFill>
        <p:spPr>
          <a:xfrm>
            <a:off x="0" y="3929040"/>
            <a:ext cx="1951200" cy="29289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2076480" y="3083040"/>
            <a:ext cx="68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515"/>
                </a:solidFill>
                <a:latin typeface="Rockwell"/>
              </a:rPr>
              <a:t>Optops &amp; OpAmps Plus Sola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1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an operational amplifi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 high-gain, direct-coupled differential amplifier whose characteristics are determined by components external to the amplifie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 high-gain, direct-coupled audio amplifier whose characteristics are determined by components external to the amplifie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 amplifier used to increase the average output of frequency modulated amateur signals to the legal limi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 program subroutine that calculates the gain of an RF amplifie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184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determines the gain and frequency characteristics of an op-amp RC active fil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values of capacitors and resistors built into the op-amp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values of capacitors and resistors external to the op-amp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input voltage and frequency of the op-amp's DC power suppl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output voltage and smoothness of the op-amp's DC power suppl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causes ringing in a fil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The slew rate of the filte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The bandwidth of the filte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The frequency and phase response of the filter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The gain of the filte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960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are the advantages of using an op-amp instead of LC elements in an audio fil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Op-amps are more rugged and can withstand more abuse than can LC element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Op-amps are fixed at one frequenc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Op-amps are available in more varieties than are LC element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Op-amps exhibit gain rather than insertion los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184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ich of the following capacitor types is best suited for use in high-stability op-amp RC active filter circui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Electrolytic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Disc ceramic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Polystyren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Paper dielectric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184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5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ow can unwanted ringing and audio instability be prevented in a multi-section op-amp RC audio filter circu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Restrict both gain and Q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Restrict gain, but increase Q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Restrict Q, but increase gai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Increase both gain and Q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000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6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steps are typically followed when selecting the external components for an op-amp RC active fil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Standard capacitor values are chosen first, the resistances are calculated, and resistors of the nearest standard value are us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Standard resistor values are chosen first, the capacitances are calculated, and capacitors of the nearest standard value are us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Standard resistor and capacitor values are used, the circuit is tested, and additional resistors are added to make any needed adjustment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Standard resistor and capacitor values are used, the circuit is tested, and additional capacitors are added to make any needed adjustment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7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ich of the following is the most appropriate use of an op-amp RC active fil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s a high-pass filter used to block RFI at the input to receive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s a low-pass filter used between a transmitter and a transmission lin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or smoothing power-supply outpu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s an audio receiving filte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3184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8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ich of the following is a type of active op-amp filter circu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Regenerative feedback resonato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Helical resonato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Gilbert cell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Sallen-Key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ment 4 Course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Rockwell"/>
              </a:rPr>
              <a:t>ELEMENT 4 Groupin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scillate &amp; Synthesize This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Circuits &amp; Resonance for All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Components in Your New Ri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Logically Speaking of Coun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515"/>
                </a:solidFill>
                <a:latin typeface="Rockwell"/>
              </a:rPr>
              <a:t>Optos &amp; OpAmps Plus Sol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Test Gear, Testing, Testing 1,2,3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Antenna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Feedlines &amp; Safet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184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9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voltage gain can be expected from the circuit in Figure E7-4 when R1 is 10 ohms and RF is 470 oh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2400120" cy="36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0.21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94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47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24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4264200" y="1892160"/>
          <a:ext cx="307332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4200" y="1892160"/>
                    <a:ext cx="307332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3184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10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does the gain of a theoretically ideal operational amplifier vary with frequen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increases linearly with increasing frequenc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decreases linearly with increasing frequenc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decreases logarithmically with increasing frequenc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does not vary with frequenc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184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1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will be the output voltage of the circuit shown in Figure E7-4 if R1 is 1000 ohms, RF is 10,000 ohms, and 0.23 volts is applied to the inpu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37828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0.23 vol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2.3 vol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-0.23 vol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-2.3 vol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5070600" y="1778040"/>
          <a:ext cx="322740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0600" y="1778040"/>
                    <a:ext cx="32274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184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1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voltage gain can be expected from the circuit in Figure E7-4 when R1 is 1800 ohms and RF is 68 kiloh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2592360" cy="36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0.03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38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76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149720" y="1816200"/>
          <a:ext cx="341784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816200"/>
                    <a:ext cx="341784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184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1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voltage gain can be expected from the circuit in Figure E7-4 when R1 is 3300 ohms and RF is 47 kiloh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706400"/>
            <a:ext cx="2208240" cy="31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20720" indent="-72072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28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20720" indent="-72072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4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20720" indent="-72072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7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20720" indent="-72072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0.07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4111560" y="1547640"/>
          <a:ext cx="3417840" cy="32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560" y="1547640"/>
                    <a:ext cx="3417840" cy="32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184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15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is meant by the term "op-amp input-offset voltage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9600" y="154728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output voltage of the op-amp minus its input voltag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difference between the output voltage of the op-amp and the input voltage required in the immediately following stag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potential between the amplifier input terminals of the op-amp in a closed-loop conditio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potential between the amplifier input terminals of the op-amp in an open-loop conditio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000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16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is the typical input impedance of an integrated circuit op-am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00 ohm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000 ohm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Very low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Very high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000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17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is the typical output impedance of an integrated circuit op-am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Very low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Very high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00 ohm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000 ohm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is photoconductiv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conversion of photon energy to electromotive energ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increased conductivity of an illuminated semiconductor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conversion of electromotive energy to photon energ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decreased conductivity of an illuminated semiconductor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120" y="39528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happens to the conductivity of a photo-conductive material when light shines on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It increas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It decreas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It stays the sam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It becomes unstabl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8344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14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n operational amplifier is a high-gain, direct-coupled differential amplifier whose characteristics are (response is) determined by components external to the amplifier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0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values of capacitors and resistors external to the op-amp determine the gain and frequency characteristics of an op-amp RC active filter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0" name="Picture 4" descr="204a"/>
          <p:cNvPicPr/>
          <p:nvPr/>
        </p:nvPicPr>
        <p:blipFill>
          <a:blip r:embed="rId1"/>
          <a:stretch/>
        </p:blipFill>
        <p:spPr>
          <a:xfrm>
            <a:off x="1960560" y="3313080"/>
            <a:ext cx="6951600" cy="3403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61880" y="5810400"/>
            <a:ext cx="153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Operational Amplifier Basic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0000" y="2412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ich of the following is an optoisola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 LED and a phototransisto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P-N junction that develops an excess positive charge when exposed to ligh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 LED and a capacito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P-N junction that develops an excess negative charge when exposed to light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120" y="39528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is the most common configuration for an optocoupl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lens and a photomultipli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frequency modulated helium-neon las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n amplitude modulated helium-neon las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n LED and a phototransisto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5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an optical shaft enco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array of neon or LED indicators whose light transmission path is controlled by a rotating whe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array of optocouplers whose light transmission path is controlled by a rotating whe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array of neon or LED indicators mounted on a rotating wheel in a coded patter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array of optocouplers mounted on a rotating wheel in a coded patter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960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6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characteristic of a crystalline solid will photoconductivity chang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The capacitan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The inductan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The specific gravity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The resistan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960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7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ich material will exhibit the greatest photo-conductive effect when illuminated by visible l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70000" y="17395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Potassium nitrat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Lead sulf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Cadmium sulf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Sodium chlor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120" y="3571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8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ich material will exhibit the greatest photo-conductive effect when illuminated by infrared l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Potassium nitrat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Lead sulf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Cadmium sulf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Sodium chlor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9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000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9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ich of the following materials is affected the most by photoconductivit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 crystalline semiconducto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n ordinary metal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 heavy metal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 liquid semiconducto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776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10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characteristic of optoisolators is often used in power suppli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y have low impedance between the light source and the phototransisto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y have very high impedance between the light source and the phototransisto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y have low impedance between the light source and the LE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y have very high impedance between the light source and the LE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184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1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characteristic of optoisolators makes them suitable for use with a triac to form the solid-state equivalent of a mechanical relay for a 120 V AC household circu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Optoisolators provide a low impedance link between a control circuit and a power circui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Optoisolators provide impedance matching between the control circuit and power circui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Optoisolators provide a very high degree of electrical isolation between a control circuit and a power circui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Optoisolators eliminate (isolate) the effects of reflected light in the control circui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776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1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ich of the following types of photovoltaic cell has the highest efficien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Silicon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Silver iod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Selenium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Gallium arsen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1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02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Ringing in a filter is caused by frequency and phase response of the filter 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(non linear group delay)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4" name="Picture 5" descr="204b"/>
          <p:cNvPicPr/>
          <p:nvPr/>
        </p:nvPicPr>
        <p:blipFill>
          <a:blip r:embed="rId1"/>
          <a:stretch/>
        </p:blipFill>
        <p:spPr>
          <a:xfrm>
            <a:off x="1998720" y="1623960"/>
            <a:ext cx="6913440" cy="3976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461880" y="4543560"/>
            <a:ext cx="153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Operational Amplifier Basic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81aea"/>
                </a:solidFill>
                <a:latin typeface="Rockwell"/>
              </a:rPr>
              <a:t>cont.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800680" y="4581360"/>
            <a:ext cx="53820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3184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1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ich of the following is the approximate open-circuit voltage produced by a fully-illuminated silicon photovoltaic cel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0.1 V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0.5 V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.5 V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2 V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9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3184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15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absorbs the energy from light falling on a photovoltaic cel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Proton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Photon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Electron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Hol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7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120" y="3571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1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is the most common type of photo-voltaic cell used for electrical power gener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Selenium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Silico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Cadmium Sulf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Copper ox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5520" y="166176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03…</a:t>
            </a:r>
            <a:r>
              <a:rPr b="1" lang="en-US" sz="20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advantages of using an op-amp instead of LC elements in an audio filter is that Op-amps exhibit gain rather than insertion loss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04…</a:t>
            </a:r>
            <a:r>
              <a:rPr b="1" lang="en-US" sz="20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polystyrene capacitor is best suited for use in high-stability op-amp RC active filter circuits.</a:t>
            </a: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05…</a:t>
            </a:r>
            <a:r>
              <a:rPr b="1" lang="en-US" sz="20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Unwanted ringing and audio instability can be prevented in a multi-section op-amp RC audio filter circuit by restricting both gain and Q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06…</a:t>
            </a: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Standard capacitor values are chosen first, then the resistances are calculated, and resistors of the nearest standard value selected for the external components in an op-amp RC active filter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91440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07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most appropriate use of an op-amp RC active filter is as an audio receiving filter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19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Ideally, an op amp has infinite input impedance (Z</a:t>
            </a:r>
            <a:r>
              <a:rPr b="0" i="1" lang="en-US" sz="1600" spc="-1" strike="noStrike" baseline="-25000">
                <a:solidFill>
                  <a:srgbClr val="381aea"/>
                </a:solidFill>
                <a:latin typeface="Rockwell"/>
              </a:rPr>
              <a:t>I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), zero output impedance (Z</a:t>
            </a:r>
            <a:r>
              <a:rPr b="0" i="1" lang="en-US" sz="1600" spc="-1" strike="noStrike" baseline="-25000">
                <a:solidFill>
                  <a:srgbClr val="381aea"/>
                </a:solidFill>
                <a:latin typeface="Rockwell"/>
              </a:rPr>
              <a:t>O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) and an open loop voltage gain (A</a:t>
            </a:r>
            <a:r>
              <a:rPr b="0" i="1" lang="en-US" sz="1600" spc="-1" strike="noStrike" baseline="-25000">
                <a:solidFill>
                  <a:srgbClr val="381aea"/>
                </a:solidFill>
                <a:latin typeface="Rockwell"/>
              </a:rPr>
              <a:t>V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) of infinity. Obviously, practical op amps do not meet these specifications, but they do come closer than most other types of amplifiers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The gain of an op amp is the function of the input resistor and the feed back resistor.  Gain in calculated by dividing the input resistor R</a:t>
            </a:r>
            <a:r>
              <a:rPr b="1" lang="en-US" sz="1600" spc="-1" strike="noStrike" baseline="-25000">
                <a:solidFill>
                  <a:srgbClr val="381aea"/>
                </a:solidFill>
                <a:latin typeface="Rockwell"/>
              </a:rPr>
              <a:t>I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 value into the feedback resistor R</a:t>
            </a:r>
            <a:r>
              <a:rPr b="1" lang="en-US" sz="1600" spc="-1" strike="noStrike" baseline="-25000">
                <a:solidFill>
                  <a:srgbClr val="381aea"/>
                </a:solidFill>
                <a:latin typeface="Rockwell"/>
              </a:rPr>
              <a:t>F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.  In figure E7-4 if the input resistor,R</a:t>
            </a:r>
            <a:r>
              <a:rPr b="1" lang="en-US" sz="1600" spc="-1" strike="noStrike" baseline="-25000">
                <a:solidFill>
                  <a:srgbClr val="381aea"/>
                </a:solidFill>
                <a:latin typeface="Rockwell"/>
              </a:rPr>
              <a:t>1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, is 10,000 ohms and the feedback resistor ,R</a:t>
            </a:r>
            <a:r>
              <a:rPr b="1" lang="en-US" sz="1600" spc="-1" strike="noStrike" baseline="-25000">
                <a:solidFill>
                  <a:srgbClr val="381aea"/>
                </a:solidFill>
                <a:latin typeface="Rockwell"/>
              </a:rPr>
              <a:t>F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, 1s</a:t>
            </a:r>
            <a:r>
              <a:rPr b="0" lang="en-US" sz="1600" spc="-1" strike="noStrike">
                <a:solidFill>
                  <a:srgbClr val="381aea"/>
                </a:solidFill>
                <a:latin typeface="Rockwell"/>
              </a:rPr>
              <a:t> 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1,000,000 ohms the gain would be 1,000,0000 / 10,000   or a gain of 100.  The output is inverted in this configuration when the signal is feed into the – pin of the op amp.  This is the most 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commonly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 used configuration.   The op amp can be configured in a non inverting mode so the out put signal is the same polarity as the input signa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3995640" y="4863960"/>
            <a:ext cx="3456000" cy="19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08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Sallen-Key 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(named after the equation designers)</a:t>
            </a:r>
            <a:r>
              <a:rPr b="0" lang="en-US" sz="16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is a type of active op-amp filter circuit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Rockwell"/>
              </a:rPr>
              <a:t>E7G09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voltage gain that can be expected from the circuit in Figure E7-4 when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Rockwell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is 10 ohms and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Rockwell"/>
              </a:rPr>
              <a:t>F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is 470 ohms is 47.</a:t>
            </a: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81ae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381aea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81ae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381ae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381aea"/>
                </a:solidFill>
                <a:latin typeface="Verdana"/>
              </a:rPr>
              <a:t>(The gain is actually -47 since the output is inverted, that is the output </a:t>
            </a:r>
            <a:r>
              <a:rPr b="0" i="1" lang="en-US" sz="1600" spc="-1" strike="noStrike">
                <a:solidFill>
                  <a:srgbClr val="381ae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381aea"/>
                </a:solidFill>
                <a:latin typeface="Verdana"/>
              </a:rPr>
              <a:t>polarity is opposite the input polarity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46040" y="5810400"/>
            <a:ext cx="2421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Gain = R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F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 / R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226040" y="581040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470 / 10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453360" y="577224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81aea"/>
                </a:solidFill>
                <a:latin typeface="Rockwell"/>
              </a:rPr>
              <a:t>47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7" name="Picture 8" descr="206a"/>
          <p:cNvPicPr/>
          <p:nvPr/>
        </p:nvPicPr>
        <p:blipFill>
          <a:blip r:embed="rId1"/>
          <a:stretch/>
        </p:blipFill>
        <p:spPr>
          <a:xfrm>
            <a:off x="2843280" y="3160800"/>
            <a:ext cx="2649600" cy="1747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5532480" y="458136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Figure E7-4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98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10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gain of a </a:t>
            </a:r>
            <a:r>
              <a:rPr b="0" i="1" lang="en-US" sz="2000" spc="-1" strike="noStrike" u="sng">
                <a:solidFill>
                  <a:srgbClr val="381aea"/>
                </a:solidFill>
                <a:uFillTx/>
                <a:latin typeface="Rockwell"/>
              </a:rPr>
              <a:t>theoretically ideal</a:t>
            </a:r>
            <a:r>
              <a:rPr b="0" i="1" lang="en-US" sz="20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operational amplifier does not vary with frequency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1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output voltage of the circuit shown in Figure E7-4 if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Rockwell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is 1000 ohms,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Rockwell"/>
              </a:rPr>
              <a:t>F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is 10,000 ohms, and 0.23 volts is applied to the input is – 2.3 volts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1" name="Picture 4" descr="206a"/>
          <p:cNvPicPr/>
          <p:nvPr/>
        </p:nvPicPr>
        <p:blipFill>
          <a:blip r:embed="rId1"/>
          <a:stretch/>
        </p:blipFill>
        <p:spPr>
          <a:xfrm>
            <a:off x="6184800" y="3160800"/>
            <a:ext cx="2649600" cy="1747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6723000" y="48880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Figure E7-4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808200" y="3583080"/>
            <a:ext cx="242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Gain = R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F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 / R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575080" y="35830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10,000/1000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341960" y="3544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81aea"/>
                </a:solidFill>
                <a:latin typeface="Rockwell"/>
              </a:rPr>
              <a:t>10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808200" y="4197240"/>
            <a:ext cx="43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Output Voltage = Input Voltage x Gai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923760" y="458136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.23 volts x 10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846000" y="5003640"/>
            <a:ext cx="16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- 2.3 vol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885960" y="5541840"/>
            <a:ext cx="57229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1aea"/>
                </a:solidFill>
                <a:latin typeface="Rockwell"/>
              </a:rPr>
              <a:t>(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Remember this operational amplifier configuration is an inverting operational amplifier</a:t>
            </a:r>
            <a:r>
              <a:rPr b="0" lang="en-US" sz="2000" spc="-1" strike="noStrike">
                <a:solidFill>
                  <a:srgbClr val="381ae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17:50:50Z</dcterms:created>
  <dc:creator>K3DIO - Bob;KK0SD - Joe;AD7FO - Jack</dc:creator>
  <dc:description>http://www.K3DIO.Com
Select Training PPT's
Select appropriate folder</dc:description>
  <dc:language>en-US</dc:language>
  <cp:lastModifiedBy>Bob Bytheway  -  K3DIO</cp:lastModifiedBy>
  <dcterms:modified xsi:type="dcterms:W3CDTF">2012-02-15T05:31:43Z</dcterms:modified>
  <cp:revision>104</cp:revision>
  <dc:subject/>
  <dc:title>Amateur Extra Licensing Class</dc:title>
</cp:coreProperties>
</file>