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6.jpeg" ContentType="image/jpeg"/>
  <Override PartName="/ppt/media/image14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0F4D-1D5E-420B-A2FC-806E016A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5EE6-A046-44DB-9A2A-46FFA329A1C0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646-4918-42A1-92A6-84D40D05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AD7-11C5-4C0F-8F34-41B3EF1F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20E-E857-492D-98FA-987B019C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59D-AAE4-4BE9-84FC-763EA9EE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1C75-CD03-4478-9336-2F1A2F96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B688-EBF3-4AF1-BAE6-8FCE0520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6BCA-06A8-47D6-ADFC-8AFFC3DE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862D-A371-40E5-B7B4-AF653D97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1CDE-0096-4485-877E-1D38FA48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D4AC-9920-47E3-9C3C-B90D03E9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AE26-CAC8-4B1A-83F2-60F67F9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DEB-B19F-4D20-8C46-FE8C547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BDCD-567D-40EE-8DA3-3F5A099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FA1E-67F2-45DD-A2BA-A059684F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A8E3-2639-4BE4-AE86-8822080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CE29-036F-43F5-8EDC-D2D29AF4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F757-26FD-43B2-A1B3-0BB4D2A4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F9D-C37A-4DF1-B59F-A7DB0694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A1C-A707-4FB9-A44B-32A770EA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EE7-D287-464E-BAFA-DC5110E5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0DB-34B3-49D2-86A5-55C4345E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3D2-8201-4DBF-B624-D6222828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B9A-6861-4E4D-B9FD-270ACFA6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037-3DC4-4732-BEBE-E8F2EBF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87A-1071-46B8-AF4A-09E8FF1AC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0B82-A5D0-473E-852F-284C8ECC531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600" y="407880"/>
            <a:ext cx="8610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mateur Extra Licensing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03800" y="4235040"/>
            <a:ext cx="34034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resented b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W5YI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Arlington, Tex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1" name="Picture 4" descr="elmer-n-ham"/>
          <p:cNvPicPr/>
          <p:nvPr/>
        </p:nvPicPr>
        <p:blipFill>
          <a:blip r:embed="rId1"/>
          <a:stretch/>
        </p:blipFill>
        <p:spPr>
          <a:xfrm>
            <a:off x="0" y="1623960"/>
            <a:ext cx="2114640" cy="218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421000" y="2506680"/>
            <a:ext cx="65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hase-locked loop circuit is an electronic servo loop consisting of a phase detector, a low-pass filter and voltage-controlled oscillator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2" name="Picture 4" descr="144a"/>
          <p:cNvPicPr/>
          <p:nvPr/>
        </p:nvPicPr>
        <p:blipFill>
          <a:blip r:embed="rId1"/>
          <a:stretch/>
        </p:blipFill>
        <p:spPr>
          <a:xfrm>
            <a:off x="501480" y="2314440"/>
            <a:ext cx="8102880" cy="2444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144b"/>
          <p:cNvPicPr/>
          <p:nvPr/>
        </p:nvPicPr>
        <p:blipFill>
          <a:blip r:embed="rId2"/>
          <a:stretch/>
        </p:blipFill>
        <p:spPr>
          <a:xfrm>
            <a:off x="1308240" y="4917960"/>
            <a:ext cx="6529320" cy="19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Both frequency synthesis and FM demodulation can be performed by a phase-locked loop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direct digital synthesizer circuit uses a phase accumulator, lookup table, digital to analog converter and a low-pass anti-alias filte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hase accumulator circuit would be classified as a principal component of a direct digital synthesizer (DDS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381480" y="3006720"/>
            <a:ext cx="245736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formation contained in the lookup table of a direct digital frequency synthesizer contains the amplitude values that represent a sine-wave output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Can also contain complex non sinusoidal waveforms, for complex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waveform simulation and generatio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9" name="Picture 4" descr="146-1"/>
          <p:cNvPicPr/>
          <p:nvPr/>
        </p:nvPicPr>
        <p:blipFill>
          <a:blip r:embed="rId1"/>
          <a:stretch/>
        </p:blipFill>
        <p:spPr>
          <a:xfrm>
            <a:off x="1308240" y="3083040"/>
            <a:ext cx="6643440" cy="3294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2114640" y="6424560"/>
            <a:ext cx="61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DDS Sub Loop of a Transmitter Dual-Loop PL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purs at discrete frequencies are the major spectral impurity components of direct digital synthesizer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599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A direct digital synthesizer has spurious outputs because the DAC’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599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(</a:t>
            </a:r>
            <a:r>
              <a:rPr b="1" i="1" lang="en-US" sz="1800" spc="-1" strike="noStrike">
                <a:solidFill>
                  <a:srgbClr val="381aea"/>
                </a:solidFill>
                <a:latin typeface="Rockwell"/>
              </a:rPr>
              <a:t>D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igital to </a:t>
            </a:r>
            <a:r>
              <a:rPr b="1" i="1" lang="en-US" sz="1800" spc="-1" strike="noStrike">
                <a:solidFill>
                  <a:srgbClr val="381aea"/>
                </a:solidFill>
                <a:latin typeface="Rockwell"/>
              </a:rPr>
              <a:t>A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nalog </a:t>
            </a:r>
            <a:r>
              <a:rPr b="1" i="1" lang="en-US" sz="1800" spc="-1" strike="noStrike">
                <a:solidFill>
                  <a:srgbClr val="381aea"/>
                </a:solidFill>
                <a:latin typeface="Rockwell"/>
              </a:rPr>
              <a:t>C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onverters) are not perfect and periodic errors resul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8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lnSpc>
                <a:spcPts val="19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frequency range over which a phase-locked loop circuit can lock is its capture range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hase-locked loop is often used as part of a variable frequency synthesizer for receivers and transmitters because it makes it possible for a VFO to have the same degree of stability as a crystal oscillator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3" name="Picture 6" descr="146-2"/>
          <p:cNvPicPr/>
          <p:nvPr/>
        </p:nvPicPr>
        <p:blipFill>
          <a:blip r:embed="rId1"/>
          <a:stretch/>
        </p:blipFill>
        <p:spPr>
          <a:xfrm>
            <a:off x="4994280" y="3583080"/>
            <a:ext cx="2997360" cy="2023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1230480" y="469584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Modern transceivers, like this small hand-held, use PLLs to lock on to the receiving frequency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8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stable reference oscillator is normally used as part of a phase locked loop (PLL) frequency synthesizer because any phase variations in the reference oscillator signal will produce phase noise in the synthesizer output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7" name="Picture 8" descr="147"/>
          <p:cNvPicPr/>
          <p:nvPr/>
        </p:nvPicPr>
        <p:blipFill>
          <a:blip r:embed="rId1"/>
          <a:stretch/>
        </p:blipFill>
        <p:spPr>
          <a:xfrm>
            <a:off x="654120" y="3006720"/>
            <a:ext cx="8028000" cy="2890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2036880" y="5886360"/>
            <a:ext cx="57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An oscillator outputs a signal of constant frequency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2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major spectral impurity component of phase-locked loop synthesizers is phase noise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1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1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hase locked loop circuit is often used in conjunction with a direct digital synthesizer (DDS) to expand the available tuning range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61880" y="1662120"/>
            <a:ext cx="4378320" cy="2149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1806480" y="1662120"/>
            <a:ext cx="2803680" cy="1959120"/>
          </a:xfrm>
          <a:prstGeom prst="rect">
            <a:avLst/>
          </a:prstGeom>
          <a:solidFill>
            <a:srgbClr val="624ef8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94280" y="308304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Shaded area is the Phase Locked Loop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4033800" y="4389480"/>
            <a:ext cx="236232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62000" y="1892160"/>
            <a:ext cx="7182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lement 4 Extra Clas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Question Poo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033800" y="4695840"/>
            <a:ext cx="380196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Valid July 1, 2008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Throug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June 30, 2012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7" name="Picture 4" descr="elmer-n-ham"/>
          <p:cNvPicPr/>
          <p:nvPr/>
        </p:nvPicPr>
        <p:blipFill>
          <a:blip r:embed="rId1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2152800" y="3121200"/>
            <a:ext cx="67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H01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ree major oscillator circuits often used in Amateur Radio equip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aft, Pierce and negative feedback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ierce, Fenner and Beane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aft, Hartley and Pierc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Colpitts, Hartley and Pierc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4120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2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condition must exist for a circuit to oscill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ts val="4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ust have at least two stages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4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ust be neutralize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ust have a positive feedback loop with a gain greater than 1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ust have negative feedback sufficient to cancel the input signa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is positive feedback supplied in a Hartley oscill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tapped coil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capacitive divider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link coupling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neutralizing capaci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ules &amp; Reg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Skywaves &amp; Contest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uter Space Com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Visuals &amp; Video Mod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Digital Excitement with Computers &amp; Radio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Modulate Your Transmit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mps &amp; Power Suppl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eceivers with Great Fil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H04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is positive feedback supplied in a Colpitts oscill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000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tapped coi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link coupling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capacitive divid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neutralizing capaci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5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How is positive feedback supplied in a Pierce oscillat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tapped coi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link coupling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neutralizing capaci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quartz crysta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6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ich type of oscillator circuits are commonly used in VFO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60" y="1699920"/>
            <a:ext cx="88934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Pierce and Zene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Colpitts and Hartle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rmstrong and deFore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Negative feedback and Balanced feedba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7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is a magnetron oscill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1840" y="154728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oscillator in which the output is fed back to the input by the magnetic field of a transforme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crystal oscillator in which variable frequency is obtained by placing the crystal in a strong magnetic field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 UHF or microwave oscillator consisting of a diode vacuum tube with a specially shaped anode, surrounded by an external magn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 reference standard oscillator in which the oscillations are synchronized by magnetic coupling to a rubidium gas tub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8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a Gunn diode oscillat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8893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oscillator based on the negative resistance properties of properly-doped semiconducto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oscillator based on the argon gas diod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highly stable reference oscillator based on the tee-notch princip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highly stable reference oscillator based on the hot-carrier effect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96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type of frequency synthesizer circuit uses a stable voltage-controlled oscillator, programmable divider, phase detector, loop filter and a reference frequency sou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direct digital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hybrid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phase locked loop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diode-switching matrix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0000" y="27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6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a phase-locked loop circu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electronic servo loop consisting of a ratio detector, reactance modulator, and voltage-controlled oscillato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electronic circuit also known as a monostable multivibrato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electronic servo loop consisting of a phase detector, a low-pass filter and voltage-controlled oscillato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electronic circuit consisting of a precision push-pull amplifier with a differential inpu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7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ich of these functions can be performed by a phase-locked loo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ts val="36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Wide-band AF and RF power amplifica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6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Comparison of two digital input signals, digital pulse count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6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hotovoltaic conversion, optical coupling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6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Frequency synthesis, FM demodula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0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frequency synthesizer circuit uses a phase accumulator, lookup table, digital to analog converter and a low-pass anti-alias fil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direct digital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hybrid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phase locked loop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diode-switching matrix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3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ich of these circuits would be classified as a principal component of a direct digital synthesizer (DDS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hase splitt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Hex invert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Chroma demodula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hase accumula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515"/>
                </a:solidFill>
                <a:latin typeface="Rockwell"/>
              </a:rPr>
              <a:t>Oscillate &amp; Synthesize This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ircuits &amp; Resonance for All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omponents in Your New Ri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Logically Speaking of Coun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ptos &amp; OpAmps Plus Sol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Test Gear, Testing, Testing 1,2,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ntenn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Feedlines &amp; Safe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3320" y="3175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nformation is contained in the lookup table of a direct digital frequency synthesiz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phase relationship between a reference oscillator and the output waveform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amplitude values that represent a sine-wave outpu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phase relationship between a voltage-controlled oscillator and the output waveform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ynthesizer frequency limits and frequency values stored in the radio memori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2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major spectral impurity components of direct digital synthesiz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roadband noi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Digital conversion noi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Spurs at discrete frequenci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Nyquist limit noi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 capture range of a phase-locked loop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frequency range over which the circuit can lo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voltage range over which the circuit can lo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put impedance range over which the circuit can lo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range of time it takes the circuit to lo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5520" y="279360"/>
            <a:ext cx="8988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9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y is a phase-locked loop often used as part of a variable frequency synthesizer for receivers and transmitt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generates FM side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eliminates the need for a voltage controlled oscilla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akes it possible for a VFO to have the same degree of stability as a crystal oscilla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can be used to generate or demodulate SSB signals by quadrature phase synchroniz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y is a stable reference oscillator normally used as part of a phase locked loop (PLL) frequency synthesiz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y amplitude variations in the reference oscillator signal will prevent the loop from locking to the desired signa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y phase variations in the reference oscillator signal will produce phase noise in the synthesizer outpu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y phase variations in the reference oscillator signal will produce harmonic distortion in the modulating signa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y amplitude variations in the reference oscillator signal will prevent the loop from changing frequenc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592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2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are the major spectral impurity components of phase-locked loop synthesiz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roadband nois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Digital conversion nois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purs at discrete frequenci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Nyquist limit nois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93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circuit is often used in conjunction with a direct digital synthesizer (DDS) to expand the available tuning r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inary expand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J-K flip-flop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hase locked loop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Compand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60" y="1661760"/>
            <a:ext cx="88711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Colpitts, Hartley and Pierce are the three major oscillator circuits often used in Amateur Radio equipmen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0" name="Picture 6" descr="PierceOsc"/>
          <p:cNvPicPr/>
          <p:nvPr/>
        </p:nvPicPr>
        <p:blipFill>
          <a:blip r:embed="rId1"/>
          <a:stretch/>
        </p:blipFill>
        <p:spPr>
          <a:xfrm>
            <a:off x="6568920" y="2776680"/>
            <a:ext cx="2421000" cy="19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olpittsOsc"/>
          <p:cNvPicPr/>
          <p:nvPr/>
        </p:nvPicPr>
        <p:blipFill>
          <a:blip r:embed="rId2"/>
          <a:stretch/>
        </p:blipFill>
        <p:spPr>
          <a:xfrm>
            <a:off x="117360" y="2738520"/>
            <a:ext cx="3265560" cy="1920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artleyOsc"/>
          <p:cNvPicPr/>
          <p:nvPr/>
        </p:nvPicPr>
        <p:blipFill>
          <a:blip r:embed="rId3"/>
          <a:stretch/>
        </p:blipFill>
        <p:spPr>
          <a:xfrm>
            <a:off x="3611520" y="2776680"/>
            <a:ext cx="2727360" cy="1919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615960" y="492768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Colpitts</a:t>
            </a:r>
            <a:r>
              <a:rPr b="0" lang="en-US" sz="1800" spc="-1" strike="noStrike">
                <a:solidFill>
                  <a:srgbClr val="381aea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381aea"/>
                </a:solidFill>
                <a:latin typeface="Rockwell"/>
              </a:rPr>
              <a:t>(has capacitor)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57480" y="49276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Hartley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</a:t>
            </a:r>
            <a:r>
              <a:rPr b="0" lang="en-US" sz="1000" spc="-1" strike="noStrike">
                <a:solidFill>
                  <a:srgbClr val="381aea"/>
                </a:solidFill>
                <a:latin typeface="Rockwell"/>
              </a:rPr>
              <a:t>(is tapped)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684840" y="492768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Pierce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</a:t>
            </a:r>
            <a:r>
              <a:rPr b="0" lang="en-US" sz="1000" spc="-1" strike="noStrike">
                <a:solidFill>
                  <a:srgbClr val="381aea"/>
                </a:solidFill>
                <a:latin typeface="Rockwell"/>
              </a:rPr>
              <a:t>(has crystal)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959200" y="5964120"/>
            <a:ext cx="38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Three major types of Oscillator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For a circuit to oscillate it must have a positive feedback loop with a gain greater than 1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570640" y="2354400"/>
            <a:ext cx="3416040" cy="176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42a"/>
          <p:cNvPicPr/>
          <p:nvPr/>
        </p:nvPicPr>
        <p:blipFill>
          <a:blip r:embed="rId2"/>
          <a:stretch/>
        </p:blipFill>
        <p:spPr>
          <a:xfrm>
            <a:off x="155520" y="2314440"/>
            <a:ext cx="5068800" cy="1812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2575080" y="415908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Rockwell"/>
              </a:rPr>
              <a:t>Amplifier with Positive Feedback - Oscillato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2" name="Picture 9" descr="142b"/>
          <p:cNvPicPr/>
          <p:nvPr/>
        </p:nvPicPr>
        <p:blipFill>
          <a:blip r:embed="rId3"/>
          <a:stretch/>
        </p:blipFill>
        <p:spPr>
          <a:xfrm>
            <a:off x="193680" y="4657680"/>
            <a:ext cx="5492880" cy="1685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"/>
          <p:cNvSpPr/>
          <p:nvPr/>
        </p:nvSpPr>
        <p:spPr>
          <a:xfrm>
            <a:off x="6108840" y="4888080"/>
            <a:ext cx="272556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scillators –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An oscillator is basically an amplifier with positive feedback from output to inpu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60560" y="630864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Rockwell"/>
              </a:rPr>
              <a:t>Oscillator Waveform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ositive feedback is supplied in a Hartley oscillator through a tapped coil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Remember Hartley uses a tapped coil for feedback. 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ts val="15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ts val="1397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7" name="Picture 5" descr="HartleyOsc"/>
          <p:cNvPicPr/>
          <p:nvPr/>
        </p:nvPicPr>
        <p:blipFill>
          <a:blip r:embed="rId1"/>
          <a:stretch/>
        </p:blipFill>
        <p:spPr>
          <a:xfrm>
            <a:off x="1154160" y="2852640"/>
            <a:ext cx="3610080" cy="2589480"/>
          </a:xfrm>
          <a:prstGeom prst="rect">
            <a:avLst/>
          </a:prstGeom>
          <a:ln w="0">
            <a:noFill/>
          </a:ln>
        </p:spPr>
      </p:pic>
      <p:sp>
        <p:nvSpPr>
          <p:cNvPr id="118" name="Line 6"/>
          <p:cNvSpPr/>
          <p:nvPr/>
        </p:nvSpPr>
        <p:spPr>
          <a:xfrm>
            <a:off x="5454720" y="2506680"/>
            <a:ext cx="39600" cy="3687840"/>
          </a:xfrm>
          <a:prstGeom prst="line">
            <a:avLst/>
          </a:prstGeom>
          <a:ln cap="sq" w="3816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 flipH="1" flipV="1">
            <a:off x="1768320" y="4773240"/>
            <a:ext cx="3726000" cy="142092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992920" y="4735440"/>
            <a:ext cx="2957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Henry is the measure of inductance of the coil in a Hartley oscillator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ositive feedback is supplied in a Colpitts oscillator through a capacitive divide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3" name="Picture 4" descr="ColpittsOsc"/>
          <p:cNvPicPr/>
          <p:nvPr/>
        </p:nvPicPr>
        <p:blipFill>
          <a:blip r:embed="rId1"/>
          <a:stretch/>
        </p:blipFill>
        <p:spPr>
          <a:xfrm>
            <a:off x="1652760" y="2890800"/>
            <a:ext cx="4046400" cy="2548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460520" y="2238480"/>
            <a:ext cx="55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Remember C for Colpitts and capacitive divid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6222960" y="2698920"/>
            <a:ext cx="0" cy="3111480"/>
          </a:xfrm>
          <a:prstGeom prst="line">
            <a:avLst/>
          </a:prstGeom>
          <a:ln cap="sq" w="3816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 flipV="1">
            <a:off x="3881520" y="4619520"/>
            <a:ext cx="2341440" cy="1190880"/>
          </a:xfrm>
          <a:prstGeom prst="line">
            <a:avLst/>
          </a:prstGeom>
          <a:ln cap="sq" w="3816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3304800" y="4619520"/>
            <a:ext cx="576360" cy="7632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Line 10"/>
          <p:cNvSpPr/>
          <p:nvPr/>
        </p:nvSpPr>
        <p:spPr>
          <a:xfrm flipH="1" flipV="1">
            <a:off x="3227040" y="4043520"/>
            <a:ext cx="654120" cy="57600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ositive feedback is supplied in a Pierce oscillator through a quartz crystal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1" name="Picture 4" descr="PierceOsc"/>
          <p:cNvPicPr/>
          <p:nvPr/>
        </p:nvPicPr>
        <p:blipFill>
          <a:blip r:embed="rId1"/>
          <a:stretch/>
        </p:blipFill>
        <p:spPr>
          <a:xfrm>
            <a:off x="2882880" y="2008080"/>
            <a:ext cx="3417840" cy="275436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1308240" y="2122560"/>
            <a:ext cx="2111400" cy="65412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230480" y="5079960"/>
            <a:ext cx="4300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Positive Feedback for oscillators –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Hartley --- tapped coi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Colpitts --- capacitive divid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Pierce --- quartz cryst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Colpitts and Hartley oscillator circuits are commonly used in VFO circuit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7…</a:t>
            </a:r>
            <a:r>
              <a:rPr b="1" lang="en-US" sz="14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magnetron oscillator is a UHF or microwave oscillator consisting of a diode vacuum 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(Magnetron)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tube with a specially shaped anode (resonator), surrounded by an external magnet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8…</a:t>
            </a:r>
            <a:r>
              <a:rPr b="1" lang="en-US" sz="14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Gunn diode oscillator is an oscillator based on the negative resistance properties of properly-doped semiconductors.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2400" spc="-1" strike="noStrike">
                <a:solidFill>
                  <a:srgbClr val="381aea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456080" y="3909960"/>
            <a:ext cx="4687920" cy="2948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4811760"/>
            <a:ext cx="4648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9…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hase locked loop frequency synthesizer circuit uses a stable, voltage-controlled oscillator, programmable divider, phase detector, loop filter and a reference frequency sourc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5920" y="3851280"/>
            <a:ext cx="36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Gunn Diodes in a resonant circuit or cavity work as oscillators well into the microwave regi</a:t>
            </a: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on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8220240" y="6500880"/>
            <a:ext cx="769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7:50:50Z</dcterms:created>
  <dc:creator>K3DIO - Bob;KK0SD - Joe;AD7FO - Jack</dc:creator>
  <dc:description>http://www.K3DIO.Com
Select Training PPT's
Select appropriate folder</dc:description>
  <dc:language>en-US</dc:language>
  <cp:lastModifiedBy>Bob Bytheway  -  K3DIO</cp:lastModifiedBy>
  <dcterms:modified xsi:type="dcterms:W3CDTF">2012-02-15T05:32:19Z</dcterms:modified>
  <cp:revision>104</cp:revision>
  <dc:subject/>
  <dc:title>Amateur Extra Licensing Class</dc:title>
</cp:coreProperties>
</file>