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F2D-E4B1-49C2-BBE2-9DA49B0D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0D87-692A-4F83-942E-1C8A8262B8F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A34-1A3A-49D5-9F02-9D039E9A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C49-A3AC-4D41-916F-3A02AD9D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A61-29BD-4F8B-BC1F-F2C5474D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2CC-BB86-4052-92E6-A9688D05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D59B-FC70-4A6B-BEDF-5276877B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A7F4-3092-42F4-9F9A-A32E051F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C48A-9E57-4B12-BA5E-921F6144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FAE6-FFDA-4352-908E-BE182DC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B204-57AD-4C11-892E-DA67757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1B33-6431-4A02-AA83-8AEBC9E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5B0D-99E5-4433-99AA-6A93BF1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16F-7480-4565-96ED-CDFBA88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07F1-9ABD-45FA-9648-49FE26F0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9CB2-E0B4-45F6-B46F-6C6C3E2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420-872F-4CAE-89E9-212C70EB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904B-8DEB-46E6-9FF3-58AC95D5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DC5D-D38C-4BD5-AED9-1C9175F0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F6-9ECC-4BE2-8711-FAB99A98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302-5EF4-4215-9772-EEE36C74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874-D07B-450B-9F72-A5445B73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0EF-9E1D-48FA-A9A1-8221D5D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89E-558B-4A90-A407-6716E70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C8D-F656-462E-A85C-C32B2EA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BD3-E7C6-4F9E-A310-9FCC42E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9BC9-9B0C-42AA-81D7-266E74DD1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986-5DA7-48F5-8973-E2DC903D103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ndspring.com/~n2wwd/html/amateur_sats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37764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440" y="4080960"/>
            <a:ext cx="3801960" cy="13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 algn="ctr">
              <a:spcBef>
                <a:spcPts val="649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452520" indent="0" algn="ctr">
              <a:spcBef>
                <a:spcPts val="649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W5YI </a:t>
            </a:r>
            <a:endParaRPr b="0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452520" indent="0" algn="ctr">
              <a:spcBef>
                <a:spcPts val="649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8" descr="1"/>
          <p:cNvPicPr/>
          <p:nvPr/>
        </p:nvPicPr>
        <p:blipFill>
          <a:blip r:embed="rId1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elmer-n-ham"/>
          <p:cNvPicPr/>
          <p:nvPr/>
        </p:nvPicPr>
        <p:blipFill>
          <a:blip r:embed="rId2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4033800" y="2506680"/>
            <a:ext cx="44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515"/>
                </a:solidFill>
                <a:latin typeface="Rockwell"/>
              </a:rPr>
              <a:t>Outer Space Comm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17360" y="1469880"/>
            <a:ext cx="8718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9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erms L band and S band specify the 23 centimeter and 13 centimeter bands with regard to satellite communic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6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atellite operating in the U/V mode would receive signals in the 432 MHz band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036880" y="2354400"/>
          <a:ext cx="4762440" cy="3260520"/>
        </p:xfrm>
        <a:graphic>
          <a:graphicData uri="http://schemas.openxmlformats.org/drawingml/2006/table">
            <a:tbl>
              <a:tblPr/>
              <a:tblGrid>
                <a:gridCol w="2438280"/>
                <a:gridCol w="232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Wave Guide Band Designa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Frequency  Range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~ 1 GHz to 2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~2 GHz to 4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3.95 GHz to 5.85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4.9 GHz to 7.o5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7.05 GHz to 10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8.2 GHZ to 12.4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KU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12.4 GHz to 18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K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18 GHz to 26.5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26.5 GHz  to 40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7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linear transponder can relay FM, CW, SSB, SSTV, PSK and Packet signal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0…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The received signal from an amateur satellite may exhibit a rapidly repeating fading effect because the satellite is rotating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1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ircularly polarized antenna can be used to minimize the effects of spin modulation and Faraday rot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16000" y="3198960"/>
            <a:ext cx="652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Satellite designers often spin the satellite to improve its pointing stability so a rapid fading effect can be due to satellite rotation.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30480" y="4965840"/>
            <a:ext cx="626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A magneto-optic effect, also known as the Faraday effect, in which the plane of polarization of an electromagnetic wave is rotated under the influence of a magnetic field parallel to the direction of propagation. It is named after the English physicist Michael Faraday (1791-1867), who first observed the effect in 1845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07680"/>
            <a:ext cx="8874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2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By calculations using the Keplerian elements for the specified satellite you can predict the location of a satellite at a given time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9" name="Picture 4" descr="61-2"/>
          <p:cNvPicPr/>
          <p:nvPr/>
        </p:nvPicPr>
        <p:blipFill>
          <a:blip r:embed="rId1"/>
          <a:stretch/>
        </p:blipFill>
        <p:spPr>
          <a:xfrm>
            <a:off x="1806480" y="2314440"/>
            <a:ext cx="5032440" cy="3316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116000" y="5772240"/>
            <a:ext cx="725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515"/>
                </a:solidFill>
                <a:latin typeface="Rockwell"/>
              </a:rPr>
              <a:t>Computer programs and websites can show you where and when an amateur satellite or the Space Station will be in range of your ham station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3680" y="1700280"/>
            <a:ext cx="871848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atellite's transmitted signal frequency shifts lower as the satellite passes overhead due to the Doppler Effec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3" name="Picture 4" descr="62"/>
          <p:cNvPicPr/>
          <p:nvPr/>
        </p:nvPicPr>
        <p:blipFill>
          <a:blip r:embed="rId1"/>
          <a:stretch/>
        </p:blipFill>
        <p:spPr>
          <a:xfrm>
            <a:off x="1154160" y="2506680"/>
            <a:ext cx="6913440" cy="2771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961920" y="5502240"/>
            <a:ext cx="756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When the satellite is approaching the receiving station its transmitted frequency is higher and when going away from the receiving station its frequency will be lower.  Like a train whistle you hear as a train approaches you and passes away from you. This effect is more pronounced at the higher frequencies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8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primary reason for satellite users to limit their transmit ERP is because the satellite transmitter output power is limited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and using a lower power allows more users to use the transmitter </a:t>
            </a:r>
            <a:r>
              <a:rPr b="0" i="1" lang="en-US" sz="2000" spc="-1" strike="noStrike">
                <a:solidFill>
                  <a:srgbClr val="ff1515"/>
                </a:solidFill>
                <a:latin typeface="Rockwell"/>
              </a:rPr>
              <a:t>(</a:t>
            </a: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using the minimum power necessary for communication is the rule</a:t>
            </a:r>
            <a:r>
              <a:rPr b="0" i="1" lang="en-US" sz="2000" spc="-1" strike="noStrike">
                <a:solidFill>
                  <a:srgbClr val="ff1515"/>
                </a:solidFill>
                <a:latin typeface="Rockwell"/>
              </a:rPr>
              <a:t>)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D04… 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The purpose of digital store-and-forward functions on an amateur satellite is to store digital messages in the satellite for later download by other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Like a post office box you can send a message to and the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recipient will go to that mailbox to retrieve your message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D05… 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The Store-and-Forward technique is normally used by low-earth orbiting digital satellites to relay messages around the world </a:t>
            </a:r>
            <a:r>
              <a:rPr b="0" i="1" lang="en-US" sz="2000" spc="-1" strike="noStrike">
                <a:solidFill>
                  <a:srgbClr val="ff0000"/>
                </a:solidFill>
                <a:latin typeface="Rockwell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Rockwell"/>
              </a:rPr>
              <a:t>beyond the footprint of the satellite when you send your message</a:t>
            </a:r>
            <a:r>
              <a:rPr b="0" i="1" lang="en-US" sz="2000" spc="-1" strike="noStrike">
                <a:solidFill>
                  <a:srgbClr val="ff0000"/>
                </a:solidFill>
                <a:latin typeface="Rockwell"/>
              </a:rPr>
              <a:t>)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3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Geosynchronous satellites appear to stay in one (fixed) position in the sk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0000" y="162360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12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FCC’s International Bureau, Washington, DC must be notified before launching an amateur space st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6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amateur space station must incorporate the capability of effecting a cessation of transmissions by telecommand when so ordered by the FCC in order to comply with FCC amateur service space station requiremen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40m, 20m, 17m, 15m, 12m and10m bands amateur service have frequencies authorized for space station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holder of any class amateur licensee is authorized to be the control operator of a space station.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8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2 meter VHF amateur service band has frequencies available for space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The 6 meter and 1.25 meter bands do not have frequencies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available for space stations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9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70 cm, 23 cm, 12 cm amateur service UHF bands have frequencies available for a space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1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pproximate maximum separation along the surface of the Earth between two stations communicating by moonbounce is 12,000 miles, as long as both can “see” the mo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receiving system with very low noise figure is desirable for EME communications. 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EME – Earth-Moon-Earth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Around 0.25 dB noise figure for VHF and UHF is desired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3" name="Picture 4" descr="65"/>
          <p:cNvPicPr/>
          <p:nvPr/>
        </p:nvPicPr>
        <p:blipFill>
          <a:blip r:embed="rId1"/>
          <a:stretch/>
        </p:blipFill>
        <p:spPr>
          <a:xfrm>
            <a:off x="2612880" y="2430360"/>
            <a:ext cx="3657600" cy="27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3680" y="166176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7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144.000 - 144.100 MHz frequency range is where you would you normally tune to find EME stations in the two meter band</a:t>
            </a: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5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wo-minute transmit and receive sequences, where one station transmits for a full two minutes and then receives for the following two minutes is normally used on 144 MHz band when attempting an EME contac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8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432.000 - 432.100 MHz frequency range is where you would you normally tune to find EME stations in the 70 cm band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25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6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wo and one half minute time sequences, where one station transmits for a full 2.5 minutes and then receives for the following 2.5 minutes, are normally used on 432 MHz band when attempting an EME contac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2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fluttery irregular fading signal characterizes libration fading of an earth-moon-earth signa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4311720"/>
            <a:ext cx="53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3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cheduling EME when the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  moon is at  perigee will generally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  result in the least path los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9" name="Picture 6" descr="66"/>
          <p:cNvPicPr/>
          <p:nvPr/>
        </p:nvPicPr>
        <p:blipFill>
          <a:blip r:embed="rId1"/>
          <a:stretch/>
        </p:blipFill>
        <p:spPr>
          <a:xfrm>
            <a:off x="5646600" y="3621240"/>
            <a:ext cx="227520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2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611520" y="27385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02680"/>
            <a:ext cx="779760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mateur-satellite serv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radio navigation service using satellites for the purpose of self-training, intercommunication and technical studies carried out by amateu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spacecraft launching service for amateur-built satell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radio communications service using amateur stations on satell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radio communications service using stations on Earth satellites for weather information gather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rection of a descending pass for an amateur satellit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north to sou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west to ea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east to we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south to no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120" y="43344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1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rection of an ascending pass for an amateur satell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3720" y="2045880"/>
            <a:ext cx="81806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west to ea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east to we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south to no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north to sou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3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orbital period of a satell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int of maximum height of a satellite's orbi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int of minimum height of a satellite's orbi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time it takes for a satellite to complete one revolution around the Ea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time it takes for a satellite to travel from perigee to apo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4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Earth station in the amateur satellite ser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mateur station within 50 km of the Earth's surface for communications with amateur stations by means of objects in spa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mateur station that is not able to communicate using amateur satellit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mateur station that transmits telemetry consisting of measurement of upper atmosphere data from spa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y amateur station on the surface of the Earth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11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ateur stations are eligible to operate as Earth s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y amateur station whose licensee has filed a pre-space notification with the FCC’s International Bureau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ly those of General, Advanced or Amateur Extra Class operator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ly those of Amateur Extra Class operator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y amateur station, subject to the privileges of the class of operator license held by the control oper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3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elecommand station in the amateur satellite ser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0000" y="1623600"/>
            <a:ext cx="8719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located on the Earth’s surface for communications with other Earth stations by means of Earth satell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that transmits communications to initiate, modify or terminate certain functions of a space st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located more than 50 km above the Earth’s surfac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that transmits telemetry consisting of measurements of upper atmosphere data from spac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1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finition of the term telem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3320" y="196956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e-way transmission of measurements at a distance from the measuring instrumen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two-way interactive transmiss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two-way single channel transmission of dat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e-way transmission that initiates, modifies, or terminates the functions of a device at a distan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10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ateur stations are eligible to be telecommand s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amateur station designated by NAS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amateur station so designated by the space station licens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amateur station so designated by the ITU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of these choices are corr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pto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120" y="39528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4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meant by the term “mode” as applied to an amateur radio satelli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31840" y="181620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type of signals that can be relayed through the satelli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atellite's uplink and downlink frequency band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atellite's orientation with respect to the Ea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ther the satellite is in a polar or equatorial orbi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120" y="5097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5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letters in a satellite's mode designator specif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Power limits for uplink and downlink transmiss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location of the ground control st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larization of uplink and downlink signal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uplink and downlink frequenci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9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terms L band and S band specify with regard to satellite communic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23 centimeter and 13 centimeter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2 meter and 70 centimeter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M and Digital Store-and-Forward system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ich sideband to u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776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6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what band would a satellite receive signals if it were operating in mode U/V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76040" y="2045880"/>
            <a:ext cx="65293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2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5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8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7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 following types of signals can be relayed through a linear transpo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M and CW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SSB and SSTV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PSK and Packe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these answers are corr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0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may the received signal from an amateur satellite exhibit a rapidly repeating fading effect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the satellite is rotat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of ionospheric absorp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of the satellite's low orbital altitud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of the Doppler eff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1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ype of antenna can be used to minimize the effects of spin modulation and Faraday ro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31880" y="2045880"/>
            <a:ext cx="7988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linearly polarized anten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circularly polarized anten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isotropic anten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log-periodic dipole arra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320" y="5493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2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way to predict the location of a satellite at a given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1840" y="1891800"/>
            <a:ext cx="8719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means of the Doppler data for the specified satelli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subtracting the mean anomaly from the orbital inclin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adding the mean anomaly to the orbital inclin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calculations using the Keplerian elements for the specified satelli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4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to a satellite's transmitted signal due to the Doppler Eff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31840" y="1739520"/>
            <a:ext cx="8719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ignal strength is reduced as the satellite passes overhea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ignal frequency shifts lower as the satellite passes overhea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ignal frequency shifts higher as the satellite passes overhea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larization of the signal continually rotate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8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primary reason for satellite users to limit their transmit ER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31840" y="212256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or RF exposure safet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the satellite transmitter output power is limit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avoid limiting the signal of the other us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avoid interfering with terrestrial QSO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69520"/>
            <a:ext cx="48402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2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mateur-satellite service is a radio communications service using amateur stations on satellite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23" descr="Amateur Radio Satelli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20" y="3659040"/>
            <a:ext cx="3801960" cy="22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57"/>
          <p:cNvPicPr/>
          <p:nvPr/>
        </p:nvPicPr>
        <p:blipFill>
          <a:blip r:embed="rId3"/>
          <a:stretch/>
        </p:blipFill>
        <p:spPr>
          <a:xfrm>
            <a:off x="4956120" y="1623960"/>
            <a:ext cx="3990960" cy="50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D04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urpose of digital store-and-forward functions on an Amateur satell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31840" y="181620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upload operational software for the transpond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delay download of telemetry until the satellite is over the control st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store digital messages in the satellite for later download by other st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relay messages between satellit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D05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techniques is normally used by low-earth orbiting digital satellites to relay messages around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Digipeat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Store-and-forwar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Multi-satellite relay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Node hopp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3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tellite appears to stay in one position in th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HE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Geosynchronou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Geomagneti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LE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96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12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must be notified before launching an amateur space st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National Aeronautics and Space Administration, Houston, TX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FCC’s International Bureau, Washington, D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Amateur Satellite Corp., Washington, D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of these answers are corr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6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special provisions must a space station incorporate in order to comply with space station require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3320" y="1700280"/>
            <a:ext cx="872028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pace station must be capable of effecting a cessation of transmissions by telecommand when so ordered by the FCC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pace station must cease all transmissions after 5 year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pace station must be capable of changing its orbit whenever such a change is ordered by NAS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tation call sign must appear on all sides of the spacecraf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7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amateur service HF bands have frequencies authorized to space st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0000" y="181620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40m, 20m, 17m, 15m, 12m and 10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40m, 20m, 17m, 15m and 10m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40m, 30m, 20m, 15m, 12m and 10m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HF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5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lass of licensee is authorized to be the control operator of a space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except those of Technician Class opera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those of General, Advanced or Amateur Extra Class opera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holder of any class of licen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those of Amateur Extra Class opera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8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VHF amateur service bands have frequencies available for space st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6 meters and 2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6 meters, 2 meters, and 1.25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 meters and 1.25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9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amateur service UHF bands have frequencies available for a space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76820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70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70 cm, 23 cm, 13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70 cm and 33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33 cm and 13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1120" y="5875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1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approximate maximum separation along the surface of the Earth between two stations communicating by moonbou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500 miles if the moon is at peri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000 miles, if the moon is at apo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5000 miles, if the moon is at peri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12,000 miles, as long as both can “see” the mo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69520"/>
            <a:ext cx="5032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irection of a descending pass for an amateur satellite is from north to south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irection of an ascending pass for an amateur satellite is from south to north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454720" y="1508040"/>
            <a:ext cx="1728720" cy="199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5454720" y="3544920"/>
            <a:ext cx="1760400" cy="1959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270000" y="5502240"/>
            <a:ext cx="8526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Ascending and descending are defined for a satellite’s motion referenced to the equator. Only the north or south motion is important and not the east-west motion. If the satellite is moving from south to north, then it makes an ascending pass and if it moves north-to-south it is descending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120" y="5097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4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ype of receiving system is desirable for EME communica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wide bandwid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low dynamic ran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low gai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low noise figur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7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requency range would you normally tune to find EME stations in the 2 meter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7604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.000 - 144.001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.000 - 144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.100 - 144.3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145.000 - 145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ransmit and receive time sequencing is normally used on 144 MHz when attempting an EME contact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9240" y="1700280"/>
            <a:ext cx="872028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minute sequences, where one station transmits for a full two minutes and then receives for the following two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One-minute sequences, where one station transmits for one minute and then receives for the following one minut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and-one-half minute sequences, where one station transmits for a full 2.5 minutes and then receives for the following 2.5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Five-minute sequences, where one station transmits for five minutes and then receives for the following five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8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requency range would you normally tune to find EME stations in the 70 cm band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77965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0.000 - 430.15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0.100 - 431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1.100 - 431.2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432.000 - 432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120" y="624960"/>
            <a:ext cx="864252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6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ransmit and receive time sequencing is normally used on 432 MHz when attempting an EME cont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00" y="177804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minute sequences, where one station transmits for a full two minutes and then receives for the following two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One-minute sequences, where one station transmits for one minute and then receives for the following one minut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and-one-half minute sequences, where one station transmits for a full 2.5 minutes and then receives for the following 2.5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Five-minute sequences, where one station transmits for five minutes and then receives for the following five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2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izes libration fading of an earth-moon-earth sign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1840" y="177804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slow change in the pitch of the CW signa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fluttery irregular fad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gradual loss of signal as the sun ris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returning echo is several Hertz lower in frequency than the transmitted signa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3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cheduling EME contacts, which of these conditions will generally result in the least path lo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oon is at peri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oon is ful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oon is at apo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UF is above 3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3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ime it takes for a satellite to complete one revolution around the earth is the orbital period of that satellite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4" descr="58"/>
          <p:cNvPicPr/>
          <p:nvPr/>
        </p:nvPicPr>
        <p:blipFill>
          <a:blip r:embed="rId1"/>
          <a:stretch/>
        </p:blipFill>
        <p:spPr>
          <a:xfrm>
            <a:off x="961920" y="2276640"/>
            <a:ext cx="7104240" cy="42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earth station in the amateur satellite service is an amateur station within 50 km of the earth's surface for communications with amateur stations in spa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11</a:t>
            </a:r>
            <a:r>
              <a:rPr b="1" lang="en-US" sz="10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y amateur station, subject to the privileges of the class of operator license held by the control operator, is eligible to operate earth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19680" y="2314440"/>
            <a:ext cx="287964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9600" y="1854360"/>
            <a:ext cx="86011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3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A telecommand station in the amateur satellite service is an amateur station that transmits communications to initiate, modify or terminate certain functions of a space st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1</a:t>
            </a:r>
            <a:r>
              <a:rPr b="0" lang="en-US" sz="500" spc="-1" strike="noStrike">
                <a:solidFill>
                  <a:srgbClr val="000066"/>
                </a:solidFill>
                <a:latin typeface="Rockwell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efinition of the term telemetry is one-way transmission of measurements at a distance from the measuring instrumen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10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 Any amateur stations so designated by the space station licensee are eligible to be telecommand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460520" y="3621240"/>
            <a:ext cx="57992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Rockwell"/>
              </a:rPr>
              <a:t>Telemetry</a:t>
            </a:r>
            <a:r>
              <a:rPr b="0" i="1" lang="en-US" sz="1800" spc="-1" strike="noStrike">
                <a:solidFill>
                  <a:srgbClr val="ff1515"/>
                </a:solidFill>
                <a:latin typeface="Rockwell"/>
              </a:rPr>
              <a:t> is a technology that allows the remote measurement and reporting of information of interest to the system designer or operator.</a:t>
            </a: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Rockwell"/>
              </a:rPr>
              <a:t>Systems that need instructions and data sent to them in order to operate require the counterpart of telemetry, telecommand.</a:t>
            </a: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4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 The term “mode” as applied to an amateur radio satellite refers to the satellite's uplink and downlink frequency band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5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The letters in a satellite's mode designator specify the uplink and downlink frequencie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89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89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89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38240" y="2314440"/>
            <a:ext cx="741204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Frequency Bands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Frequency Range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Modes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High Frequency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21 – 30 M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H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VHF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144 – 146 M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V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UHF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435 – 438 M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U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L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1.26-1.27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S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2.4-2.45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S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C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5.8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X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10.4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X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K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24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K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08200" y="4888080"/>
            <a:ext cx="71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Amateur transmit and receive frequencies for satellite operation are on separate bands. Each band has its own designator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3:08Z</dcterms:modified>
  <cp:revision>132</cp:revision>
  <dc:subject/>
  <dc:title>Amateur Extra Licensing Class</dc:title>
</cp:coreProperties>
</file>